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9552-44B8-4C21-8790-3DC184A4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should be blo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blogging you should be reading blogs - professional reading, critiquing, making judgem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ret life of b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ful blogs have great content - spelt correctly, no or few grammatical errors, formatted appropriately - t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s in teenage writing - IM and SMS - are elimated through blo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teacher looking over shoulder or marking or checking - blogs can be as creative as they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 research and learning about specific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ful blogs have great content - spelt correctly, no or few grammatical errors, formatted appropriately - t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s in teenage writing - IM and SMS - are elimated through blo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teacher looking over shoulder or marking or checking - blogs can be as creative as they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 research and learning about specific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example is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he resource is often dependent on the strength of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. Read/Write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wo-way medium - users are both readers and wri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owing use of social software allows communication and collaboration between two or more peop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A7EF-8BAF-42A1-B91E-63AA669C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AB1-41C0-4FFD-B5F0-D09B9D5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7EA-BE53-4177-9480-3BCDDD52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35C-6FDF-4775-820C-9AE1DF1C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A7E-23DA-431B-8919-5062F63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879-D1A5-428A-938E-7539FA05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2E8-668C-4CDB-B76C-7D44414C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66E-AF98-4E2F-AA2B-4CC3B909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1C1-AEC4-4E95-8F41-FDFBCCE0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EC6-185D-430E-ABAE-EC5ECC1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027-D83C-48D1-8716-FBBB0C82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4F4-08D0-4CD3-A07F-526FB75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89FF-569E-4D6C-9EE7-E59DA785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hediaryofannefrank.blogspot.com/" TargetMode="External"/><Relationship Id="rId3" Type="http://schemas.openxmlformats.org/officeDocument/2006/relationships/hyperlink" Target="http://thediaryofannefrank.blogspot.com/" TargetMode="External"/><Relationship Id="rId4" Type="http://schemas.openxmlformats.org/officeDocument/2006/relationships/hyperlink" Target="http://thediaryofannefrank.blogspot.com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Engaging our students </a:t>
            </a:r>
            <a:br>
              <a:rPr sz="4400"/>
            </a:b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ith Web2.0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 &amp; archive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d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/Class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s/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ent cont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daig Primary -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 Sheehy’s English Class - Central High School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9 Nelson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Diary of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nne Fr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yennes’ Science Fair B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2 Bucklands Beach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B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d writing 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s the writer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ters crea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ed to a community of people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s and em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gs 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 centralised place for regular writing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the teacher and students to comment and provid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a greater sense of community within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 a voice to students who may not feel comfortable speaking in class, or who are overshadowed by more voca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324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Wik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ebsite in which content can be created and edited by a community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kis Build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 updates help to maintain dialogue with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kis allow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potential for building/strengthening community of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ly create simpl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development with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auth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 a group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ngoing database of sharable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 collaborativ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s to use Wikis in the Classroo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610840" cy="5408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641600"/>
            <a:ext cx="19051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delivers content and skills based on government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23623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and skills delivered by the teacher and reflected back by th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228600"/>
            <a:ext cx="190476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act as mirrors, reflecting content and skills back to the teacher and asses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8088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 1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9 Nelson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m 2 Bucklands Beach 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 Davis - Westwoo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 Sheehy’s Class - Central High School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use a wiki in the class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kis offer the flexibility to address questions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is easy to edit/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/updated content is availabl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s ed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for a purpose an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ive construction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 of reading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order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engaging and empowering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rting Web2.0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2590560" cy="754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3873600" cy="57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990720" y="5486400"/>
            <a:ext cx="3352680" cy="781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914400" y="4038480"/>
            <a:ext cx="3276720" cy="976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29200" y="1905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H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124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638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Generated Medi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32000" y="1066680"/>
            <a:ext cx="362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f74"/>
                </a:solidFill>
                <a:latin typeface="Times New Roman"/>
              </a:rPr>
              <a:t>Digital Age Liter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304920" y="10666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, Scientific and Technological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 and Information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ltural Literacy and Global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99480" indent="-7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08360" y="1066680"/>
            <a:ext cx="362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Inventive Thi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14479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ability and Managing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iosity, Creativity and Risk 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Thinking and Sound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Effective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304920" y="4648320"/>
            <a:ext cx="495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aming, Collaboration and Interperson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 and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activ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267080"/>
            <a:ext cx="4190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10064"/>
                </a:solidFill>
                <a:latin typeface="Times New Roman"/>
              </a:rPr>
              <a:t>High  Produ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64832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sing, Planning and Managing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Use of Real Worl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, Meaningfu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46080" indent="-105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65760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11430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593400">
            <a:off x="838080" y="609120"/>
            <a:ext cx="7925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1st 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t’s not too scary… it can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em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e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release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timulate artistic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spark technic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ush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e insp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provide for student choice and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ater to mulitple intellig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be a relief to som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nd you can be a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the last generation of teachers who will have a choice whether or not to use or not use the new technologies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eryl Nussbaum-Beac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and skills delivered by the teacher and reflected back by th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22280"/>
            <a:ext cx="21337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act as amplifiers - mining, processing, mixing and remixing content and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0492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 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505320"/>
            <a:ext cx="213336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and skills are mined by students who build from the information and raw materials and then share within the class and outs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371600"/>
            <a:ext cx="167616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models learning and sharing and monitors student work channeling and crafting learning experi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832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eb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2967120" cy="3308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323676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304920"/>
            <a:ext cx="396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eb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92920" y="45752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and p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5960" y="4572000"/>
            <a:ext cx="266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writ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se - 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For the first time in history, students are no longer limited by their teachers’ ability and knowledg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Mark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page of personally generated diaries, photos, poetry, works of fiction, essays, project updates, news, video files, audi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nologically arrang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ers can post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s can be made to other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s are like instant messages to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0080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ovative,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for an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be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assword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um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rely room for large medi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censing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 needs to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T</cp:lastModifiedBy>
  <dcterms:modified xsi:type="dcterms:W3CDTF">2007-06-20T01:20:32Z</dcterms:modified>
  <cp:revision>12</cp:revision>
  <dc:subject/>
  <dc:title>Engaging our students  with Web2.0 tools</dc:title>
</cp:coreProperties>
</file>